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2AE-D090-4FDA-B190-261D3F5B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F6D-EF86-4FAB-806A-C5FB1416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20C-60A4-4C9C-9B51-A41B1CCC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71D-71B7-4157-B007-09FDC1D7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4848-5C6B-4E5F-A6D7-47A563DB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B7BF-CF0F-4590-A3E5-1B038068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17EA-5BCC-4AEE-8589-6ACFF6A3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9513-BDDF-4834-95F2-3E6CF4C0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BE83-64C0-4FEF-BEF0-FEC93F76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97ED-AA22-4192-8550-786DA832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1923-D22A-4D83-B024-DD51C703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175-D274-4394-9892-ED831FEE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7686-569E-444A-907A-05A581A2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DA80-EF73-456C-BDCA-E7BA70E2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43CA-FFF5-4FEC-B1B6-F89059A0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90B7-CAE8-4593-873A-B74F8BC1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441D-84A6-4A62-99B5-7E608A6A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523-E239-4E69-A96A-82A1E427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E97-20F4-48B0-8252-2B998ABA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643-2D99-486F-A3FE-1A1291BC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3CE-2B6D-40E2-A18B-9A74C26D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6DD-0D53-4C3D-8C6B-BF86DF19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7BC-FE6A-4FA7-BAAF-4D4D1FA4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2A1-9B28-4093-A682-2EAEFF09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D99E9-AC20-476F-B155-8A75CAC08F2C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27B07-E182-4B5C-905A-4B0F80E8981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E51C9-5D95-4417-95BD-B32BE19371CA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93891-605A-4C0A-9FD8-8BB7775DF3B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learner.org/courses/essential/physicalsci/session7/closer1.html" TargetMode="External"/><Relationship Id="rId4" Type="http://schemas.openxmlformats.org/officeDocument/2006/relationships/hyperlink" Target="http://www.physicalgeography.net/fundamentals/6a.html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67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209680" y="5333760"/>
            <a:ext cx="464832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rs. Ermelda Polk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T7240 – July 25, 2009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530280" y="500040"/>
            <a:ext cx="7931160" cy="131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57200" y="1600200"/>
          <a:ext cx="8229600" cy="2494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ypes of En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mportance of En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Energy absorbed or relea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16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936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116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u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116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echan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64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3" descr=""/>
          <p:cNvPicPr/>
          <p:nvPr/>
        </p:nvPicPr>
        <p:blipFill>
          <a:blip r:embed="rId3"/>
          <a:stretch/>
        </p:blipFill>
        <p:spPr>
          <a:xfrm>
            <a:off x="420840" y="1596960"/>
            <a:ext cx="8631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2"/>
          <a:stretch/>
        </p:blipFill>
        <p:spPr>
          <a:xfrm>
            <a:off x="907920" y="500040"/>
            <a:ext cx="7328160" cy="12430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3" descr="ch2.png"/>
          <p:cNvPicPr/>
          <p:nvPr/>
        </p:nvPicPr>
        <p:blipFill>
          <a:blip r:embed="rId3"/>
          <a:srcRect l="0" t="-3752" r="0" b="-3752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640" y="16761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MPERATURE AND TEMPERATURE SCA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30920" y="16761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EATING CURVE FOR H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Content Placeholder 9" descr="Untitled.png"/>
          <p:cNvPicPr/>
          <p:nvPr/>
        </p:nvPicPr>
        <p:blipFill>
          <a:blip r:embed="rId3"/>
          <a:srcRect l="0" t="-8013" r="0" b="-8013"/>
          <a:stretch/>
        </p:blipFill>
        <p:spPr>
          <a:xfrm>
            <a:off x="457200" y="2362320"/>
            <a:ext cx="4040280" cy="376380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10" descr="Untitled1.png"/>
          <p:cNvPicPr/>
          <p:nvPr/>
        </p:nvPicPr>
        <p:blipFill>
          <a:blip r:embed="rId4"/>
          <a:srcRect l="0" t="-24654" r="0" b="-24654"/>
          <a:stretch/>
        </p:blipFill>
        <p:spPr>
          <a:xfrm>
            <a:off x="4645080" y="2362320"/>
            <a:ext cx="40417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learner.org/courses/essential/physicalsci/session7/closer1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physicalgeography.net/fundamentals/6a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UNDERSTANDING KEY IDEA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ITICAL THINK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is energ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w does heat differ from temperatur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two temperature scales are used in chemistr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at happens in terms of the transfer of energy as heat when you hold a snowball in your hands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f energy is transferred to a substance as heat, will the temperature of the substance always increas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xplain why or why not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4:09:14Z</dcterms:created>
  <dc:creator>College of Education</dc:creator>
  <dc:description/>
  <dc:language>en-US</dc:language>
  <cp:lastModifiedBy>College of Education</cp:lastModifiedBy>
  <dcterms:modified xsi:type="dcterms:W3CDTF">2009-07-25T17:59:38Z</dcterms:modified>
  <cp:revision>3</cp:revision>
  <dc:subject/>
  <dc:title>Chapter 2 – Energy Notes</dc:title>
</cp:coreProperties>
</file>